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EE39-D20C-44F8-8F35-E5DC7505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BC72-2C86-4DB3-84A7-BED4D8029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work data is rich, and full of interesting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sari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fair resource 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work administrators don’t typically use visualization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work visualizations too clutt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-time network visualizations are hard to fo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uch data to see visu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Grok brings new visualizations to network administ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DA22-3715-4736-ABC6-1257616F9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Load traffic into netgrok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save fil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pcap formatted network captur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irectly from an interface in real-tim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Interface has three tabs corresponding to 3 diff. views of network traffic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graph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treema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edge tab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underlying data being visualized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graph view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network hosts are nodes in a graph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connections are edges between the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seen by mousing over a hos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s inside the center ring are local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outside are foreig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foreign hosts layed out with a hashing algorithm, so they will appear in the same location in every installa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 size is proportional to the number of connections they make, also know as their degre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s are colored by their bandwidth usag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red hosts consume a lo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green ones consume litt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s that send no traffic are called zero-byte host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white nodes with dashed border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ouble clicking zooms in and ou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Also zoom with scroll wheel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Pan by dragging canva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efined two group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goog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wireles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Groups edited in groups.ini file in installation direct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Zoomed in on google grou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explore by mousing ove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context menu options (DNS lookup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treemap view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isplays hosts as rectangles in hierarcy of network group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thick borders separate groups while thin one separate hosts within each grou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Useful for displaying large network captur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more hosts and connections without occlus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s colored by network usag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Red hosts consume a lot of bandwidth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Yellow ones consume very litt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ost size is proportional to the number of connections it mak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A hosts connections can be displayed by mousing over i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Hosts with connections to the selected host remain colored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Those without are grayed ou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Large packet trac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Analyze network resource patters in a large datase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searching and filterin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Capture of wireless users at the 2006 OSDI conference from crawdad websit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anonymized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Quickly shows top bandwidth consuming host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This host sends large ammount of into to one other hos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Largest rectangles are the hosts that make the most connectio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Details on demand pane shows further info about host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incoming and outgoing connectio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Search box can be used to show hosts matching given IP and subnet mask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Start with 192 using an 8-bit mask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bandwidth and degree sliders can be used to find hosts matching a range of bandwith or degre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Histogram at bottom of screen shows a line chart of the number of connections made over tim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slider below it can be used to inspect the connections made in a specific tim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o finding a ping swee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Filtering by degree shows a large number of zero-byte hosts in the dat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zero-byte hosts are ones to which data is sent but no response is received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typically the result of a ping sweep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the user tries to find other hosts on the network by communicating with a range of IP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- Let's try to find the user performing the suspected ping sweep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find times zero-byte hosts appear using the time slide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Large number of connections in short amout of tim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+ If we show edges for a few zero-byte hosts and relax the degree filter, we can trace the edges back to their origi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CEC9-404B-4B81-A70C-885575B0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hed layout for consistent node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ed, home-centric network lay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map showing connections between nodes without oc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se-over and preferential display of edges reduces visual complex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 of filter and selection widgets to network visu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ization framework for real-time IP data fl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6DC1-A39F-4482-AF61-77AA7C65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lines of Ja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izations and data store built primarily using the Prefuse toolkit, with some additional custom data structures and graph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et capturing and PCAP file reading use the JPCAP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 constructed with Jigloo Eclipse plugin (not recommend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8419-2A21-4112-9788-FDC9C535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CAP analysis and live capture analysis with Brad Plecs, Network Administrator for the CS Dept. at UM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Respon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ter sliders, specifically time overview hist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uitive graph layout and group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NetGrok is excellent as a real-time diagnostic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is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s transport layer data (TCP/UD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s are confusing, dis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D73E-80C7-4CF3-A6E1-42E84154E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support for aging off ol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visualiz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bstract view for visualizing much larger data s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semantics to substrate used for foreign host lay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NetGrok as a personal security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rser view – Harel &amp; Koren, Wong (pn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7C69-C040-41CC-804F-ABB75E8B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Brad Plecs for offering expert advice and participation in our preliminary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Thomas Lotze, Joonghoon Lee, Michael VanDaniker, Fatemeh Mir Rashed, Abigail Daken, Michael Lam, Huimin Guo, and Krist Wongsuphasawat for reviewing our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D398-4A75-4045-9CB2-3290237B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EAE-6DB9-4F6A-B31A-5032E313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387-19C3-441E-A1FB-D16E2D5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4C9-97D2-4054-8828-25EA008A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3B7-8280-4BD2-827F-1CD34D1A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174-9ABC-4621-866F-B762D6A4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716-5242-4250-B753-92D7A96F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244-1171-400C-8028-23E9E8D1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7AA-36E2-495F-9088-7FB2B5AA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F35-C407-4A48-91D4-CD8BFBA2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AA1-384E-42FD-A023-6988634C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81A-C572-4C0B-A540-4EF21BCA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84F-2BF5-4640-A743-1D949BF0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D7D4-F1A8-4CBB-9D66-C4045A70A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vlc\vlc.exe &quot;NetGrok Screencast.m4v&quot; --no-audio --fullscreen --start-time 16 --stop-time 424" TargetMode="External"/><Relationship Id="rId2" Type="http://schemas.openxmlformats.org/officeDocument/2006/relationships/image" Target="../media/image2.jpeg"/><Relationship Id="rId3" Type="http://schemas.openxmlformats.org/officeDocument/2006/relationships/hyperlink" Target="vlc\vlc.exe &quot;NetGrok Screencast.m4v&quot; --audio --fullscreen --start-time 16 --stop-time 723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ualizing Real-Time Network Resource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655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yan Blue, Cody Dunne, Adam Fuch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yle King, and Aaron Schul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versity of Marylan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pt. of Computer Sc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ct: cdunne@cs.umd.ed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rkshop on Visualization for Computer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ptember 15, 200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ston, 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ct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site:   www.cs.umd.edu/projects/netgro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cdunne@cs.umd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network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ersarial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air resource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ualization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much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utt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to fol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tools are text b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-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ual s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local syst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ology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usual network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G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7" descr="netgrok_entir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Sound">
            <a:hlinkClick r:id="rId3"/>
          </p:cNvPr>
          <p:cNvSpPr/>
          <p:nvPr/>
        </p:nvSpPr>
        <p:spPr>
          <a:xfrm>
            <a:off x="8153280" y="6248520"/>
            <a:ext cx="371520" cy="447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hed 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ed, home-centric 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map links without oc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se-over and preferential edge disp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ualization framework for real-time IP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use toolk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 data structures and visual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PCAP 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gloo Eclipse plu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fessiona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ert user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case meetings (2 x 1 hr + email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CAP and live capture analysis (1 h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kert scale questionna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sitiv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ter sliders, esp. time hist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uitive layout and group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NetGrok is excellent as a real-time diagnostic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iticis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port layer data (TCP/UD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ynamic group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im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emaps interesting but not intui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 off ol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visual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antic subst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rser 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security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or Ben Shneiderman our advi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d Plecs our case study particip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Lotze, Joonghoon Lee, Michael VanDaniker, Fatemeh Mir Rashed, Abigail Daken, Michael Lam, Huimin Guo, and Krist Wongsuphasawat our revie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0:37:58Z</dcterms:created>
  <dc:creator>hidedrive</dc:creator>
  <dc:description/>
  <dc:language>en-US</dc:language>
  <cp:lastModifiedBy>hidedrive</cp:lastModifiedBy>
  <dcterms:modified xsi:type="dcterms:W3CDTF">2008-09-23T22:16:55Z</dcterms:modified>
  <cp:revision>56</cp:revision>
  <dc:subject/>
  <dc:title>NetGrok A Visualization Tool for Network Administrators</dc:title>
</cp:coreProperties>
</file>